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gif" ContentType="image/gif"/>
  <Override PartName="/ppt/media/image5.png" ContentType="image/png"/>
  <Override PartName="/ppt/media/image6.gif" ContentType="image/gif"/>
  <Override PartName="/ppt/media/image10.jpeg" ContentType="image/jpe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661E-05EB-4857-884D-B52F4BC9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707-2EB6-4CD0-A10E-BD95BD4E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58B54-132B-4EB9-937E-338D5DD9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48595-C818-4738-93D3-615F2E7F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310CE-1636-42D0-B109-7B8AAB71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F437A-6375-4685-B8F5-772C8442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35E09-F188-4286-9FEC-11A9BB2D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F7C0E-A034-48CA-A985-2AF082AD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04E2A-43B5-46EC-BA9A-20D7789E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74666-71D2-44EC-B002-1C23C286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32C62-D6C5-448B-B3B3-B68BD807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88DA8-18B6-458B-9F01-305C2496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424-7F0F-4A21-A7E7-26CE3025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1CB24-178A-4610-AC31-38821AE5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F7AD1-1B1C-4239-BD0D-3565320D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4ADA9-8BFF-431F-AF1B-46D0BCB1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C173F-7688-4C8A-8731-092D73DB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4287C-A31F-4F8E-8769-6AE7DD4E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3FB55-2221-43BE-AD9A-5FF7DA5D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D70BE-13FF-478A-BABF-B168789E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B688F-3D52-4CA7-B1ED-35E9DB53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4F37E-287E-430E-80A1-EEB4A6F7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EFBC5-C5E5-4307-AB3A-6F2370DD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8FCD-2EDD-451F-9EED-DC74E482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6169E-57A8-4D48-86A6-AAD66787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CC6EB-0B5B-42D4-BF15-8939742D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7815B-7B79-45E6-B2B7-9AC5942B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278E6-BCBC-4735-9DE4-652A8AAE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3B7EB-08F2-44BA-BC75-6F324771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1884A-406A-4938-AB30-420C5FAB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A3EA4-82B0-4CD5-997A-205888A7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2FEFF-D406-4EE4-81D2-3E8149CA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DE09F-56BE-44D8-B41A-0995931E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FF117-84E1-4420-B010-76423E36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9F0F-A30D-4408-AEAF-B199F8E3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4B35F-6BF8-406F-9EDC-52A3E2BA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D582E-5AB6-4FA4-B854-95704FC5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4EF20-3692-4294-BAD3-223254A2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B0BC3-69DF-45A9-A703-CAC088C0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88950-0870-4B32-A3DB-2EA50F55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E71FA-7B8B-44E9-9B78-2D03DF4E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7A3BD-3A47-4095-A2B6-6C2928C5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E58C1-5EBB-4DFB-9440-2126A5B3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631CA-0479-46C9-85C8-86EC6938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40636-A9BF-4E05-9826-CAF574AF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974C-5951-4B40-8697-D9ABDC9E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6CC92-6C7E-4731-9B36-7A463994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D311F-0C77-4BDA-A79B-FF9A6ADF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52100-9D71-40EF-BD30-8BF4ECAD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91C93-F38B-4B77-B5A6-56BC4230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E59EE-B21D-4EF7-BE06-EE8D44E5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97D9-65AC-4400-A37F-7B9240E1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C857-B3CE-4971-ABEF-2F4D12D1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59EB-42A9-4472-BC85-D60FD128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405A-B29D-48F3-BEF6-772E7EAC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10F9-8EF2-409B-B1E1-73F91F52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2E13-3F2C-44DD-AE60-D073166E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1739-09B7-4347-9A8B-9BBE0ADC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3DED-C917-4079-93D8-26D72EDA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43EF-FA9D-4A91-848E-71F801B5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1118-227B-45D1-8E45-3BAB86BA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BE36-F8C9-4BE6-A317-B5AF3959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0E30F-D2E1-44F6-A0E2-0DF4A005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C7033-9EBB-4BA2-A048-16F25993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0EE45-037C-4285-9834-3B20BA2A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9DD5B-6F37-4639-B126-247A37B4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05EC5-5EA2-4ACD-953E-BA56E4FD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031-A034-401C-B869-41B4722E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019AB-CEFA-4176-AA0D-A1D037EF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E39C3-EFAF-4B57-8038-B35BB046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BD047-999E-4C74-9F26-6636A76D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14EBE-D914-40EC-B372-A180E5FB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1BA46-1260-404B-BF44-3D446F7A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A0E0C-A68B-4EFF-92D0-8C9F6183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D3D4-A9F2-443D-B497-9BE5E536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9FD8D-075D-464B-9740-B90E6CBF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2A339-3A5B-4AA5-B6BB-743732DD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1071B-9B30-41A9-B973-396E5830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62E2-71A2-4A15-8E91-1ED81DA0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A5426-E308-4225-A24A-7ACC320E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D1FB3-32A8-4174-8BF7-EF5172F8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F5F29-8173-474E-B772-99246636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69F02-6F11-41DA-9938-2D00B888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47488-5EFD-41B1-9F0E-25A905E1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C5180-AB81-4408-8F43-FCD98A15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5DF14-8373-4901-99C5-B2A48B01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9617B-DDA5-4C14-B88F-1649C424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30BDE-5C5D-4C35-807B-77E67379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828E0-3A45-4814-8C56-BC99C1C3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93B-AC21-4E0C-B550-EAD58A67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14A0B-FCAC-42BC-8145-F445851B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11264-9284-4F19-A8D3-2746ECE2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98AAC-7F71-425C-999E-97370428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AB977-7B4A-4AAA-BDF6-FC8A83B3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C8CCF-B339-4D73-85A6-5067F966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2584E-D74C-4ADF-A8C2-A16011AA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CAAC5-9B35-448B-8911-EF783158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4948D-C1A7-400C-A452-91892346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6553D-0E1C-4132-AF0F-72E1C171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AF0E6-866D-4529-9FF5-9505095E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FB06-7CEF-4823-9362-6941EF1A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2BE01-9573-4CF1-B887-16EB0512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37DB01-DDB0-4B70-B5ED-05D1C743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AF7ECF-D1CD-4C91-9E57-DA36944E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03EBEE-B29B-48F7-9894-4D0B069D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4EEDF9-E56B-4C55-96EE-1F5A4888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2BDA81-ACB5-4871-B692-E0DF2F5B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785B47-6CBA-47DD-848B-47A75854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370BD9-59BA-417A-888B-AA639643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0B6518-2F7F-48E4-ADAC-02C7DAD5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444E02-1A82-493F-A63A-DA09230A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C7E-7F73-41B8-AD34-CE905336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BDC353-33F1-49E1-AA68-E776FBD1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04C9D7-DDAA-4C80-B0CF-05A81A68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8357D0-6A2B-45C2-A2F3-9709DB6E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FC54C-B74D-4F8D-AD72-8754CF3B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6CC49-794E-4510-9D7B-D13CF6AF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948CA-FE49-412F-97D8-F522E23C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12880-C438-4629-8E7B-33EB92E6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8A094-5538-41DB-86AB-C8A6BAB0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88A83-1918-4AEA-B168-6C46593B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4EB19-B334-486F-B3F4-72C30FFC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6DD0-8503-4A25-9C5D-60ABB2B5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95FF1-C112-4EB0-A1AD-56F408F7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D3651-AAB1-4386-BCA0-AB015EA3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437B8-81CF-4FD2-A6DA-337C15D2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11078-296F-4CA2-8F4C-2FCBD390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046BD-D921-4942-B10F-32AAAE8A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93337-E6EA-4D5D-9B00-A0C90A57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C51BD-0865-438E-A975-DF1C92F6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1D7FA-6573-4DF2-AC8D-D929A59A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96138-F902-4C61-979E-E342F714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4D191-A1C0-4522-B753-89BD19E6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E3F-D0A6-49EE-A2AB-AA48802D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15D9E-5EF1-4026-8B2A-BF2F7847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AE96D-95F5-4898-9983-823E55A7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14F82-8772-47BC-AEDB-213FFF5A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230E7-6E2A-4465-B6EC-FA548992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39874-E2B8-4232-95EE-DEA6AE68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C1FD1-190E-41A9-A425-E8CE94BF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603CE-1F0F-4B0C-9CB7-E89A636A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D0146-07EE-4FDD-B006-DC9E95E6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F497C-8621-4E16-9263-0A52FFE2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7A010-BDCA-4FB0-80CE-04B5BABD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FEFB-7461-4794-9AE9-9DDBF78C20D5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D7BF-467A-4AE7-A813-775719347C8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10F9-32AE-4D55-A0B4-D74291B39B5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8FF9-1242-4CCA-9458-348DE355CF5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F2C3-EA64-43F9-BF7B-321B383424C5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757F-DF60-4E41-A381-DA5135C47D01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D3A0-AFC2-41C7-A066-65697CFCA51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6BDC-5D5D-4CB2-BA54-51AD2466CF7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93B7-9BCE-4F5F-9D7B-989B6B437F2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F906-F905-4A6A-A589-C5DC03F27C81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CB49-DE16-4A7D-B284-BFABB72A3C1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7682-EB1C-46AD-B4F6-565B5655656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hapters 7, 8, and 9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onic Bonding, Covalent Bonding, and 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etallic Bon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med when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metal atoms crowd together and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Georgia"/>
              </a:rPr>
              <a:t>valance shells overla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Georgia"/>
              </a:rPr>
              <a:t>Valance electrons become “delocalized”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able to move from one atom to the next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Like a “sea of electrons” flowing through the positively charged metal 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perties of Meta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Conduct electric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600cc"/>
                </a:solidFill>
                <a:uFillTx/>
                <a:latin typeface="Georgia"/>
              </a:rPr>
              <a:t>Are malleable and ductil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8000"/>
                </a:solidFill>
                <a:uFillTx/>
                <a:latin typeface="Georgia"/>
              </a:rPr>
              <a:t>Are insolubl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aming Ionic Compounds </a:t>
            </a:r>
            <a:br>
              <a:rPr sz="4000"/>
            </a:br>
            <a:r>
              <a:rPr b="0" lang="en-US" sz="2000" spc="-1" strike="noStrike">
                <a:solidFill>
                  <a:srgbClr val="424456"/>
                </a:solidFill>
                <a:latin typeface="Trebuchet MS"/>
              </a:rPr>
              <a:t>(Chapter 9)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Georgia"/>
              </a:rPr>
              <a:t>Let’s Recall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Georgia"/>
              </a:rPr>
              <a:t>Charged Particles(Ions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eorgia"/>
              </a:rPr>
              <a:t>Monoatomic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 formed from a </a:t>
            </a: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single atom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that has gained or lost electr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eorgia"/>
              </a:rPr>
              <a:t>Polyatomic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 formed from a </a:t>
            </a: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group of atoms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that collectively (as a unit) have a charg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natomic Ions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single atom that has acquired a charge by gaining or losing one or more electr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ill almost always either be +1, + 2, or +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 -1, -2 or -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arely are charges beyond + or - 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y will not be fraction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onatomic Ions that are Mutlivalent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ltivalent ions(Transition metal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a system to describe the charge since the location on the table doesn’t wor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ystem- whatever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hose elements have is indicated by a </a:t>
            </a: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Roman Numer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or example: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ron can form ions with charges of either +2 or +3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s of Multivalent Ions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pper (</a:t>
            </a:r>
            <a:r>
              <a:rPr b="0" lang="en-US" sz="2800" spc="-1" strike="noStrike">
                <a:solidFill>
                  <a:srgbClr val="00ff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= Cu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eorgi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pper (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= C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Georgia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n</a:t>
            </a:r>
            <a:r>
              <a:rPr b="0" lang="en-US" sz="2800" spc="-1" strike="noStrike" baseline="30000">
                <a:solidFill>
                  <a:srgbClr val="00ccff"/>
                </a:solidFill>
                <a:latin typeface="Georgia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tin (</a:t>
            </a:r>
            <a:r>
              <a:rPr b="0" lang="en-US" sz="2800" spc="-1" strike="noStrike">
                <a:solidFill>
                  <a:srgbClr val="00ccff"/>
                </a:solidFill>
                <a:latin typeface="Georgia"/>
              </a:rPr>
              <a:t>IV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Georgia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tin (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ismuth (</a:t>
            </a:r>
            <a:r>
              <a:rPr b="0" lang="en-US" sz="2800" spc="-1" strike="noStrike">
                <a:solidFill>
                  <a:srgbClr val="00ff00"/>
                </a:solidFill>
                <a:latin typeface="Georgia"/>
              </a:rPr>
              <a:t>II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= Bi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eorgia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ismuth (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= Bi</a:t>
            </a:r>
            <a:r>
              <a:rPr b="0" lang="en-US" sz="2800" spc="-1" strike="noStrike" baseline="30000">
                <a:solidFill>
                  <a:srgbClr val="ff0000"/>
                </a:solidFill>
                <a:latin typeface="Georgia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rmanium (</a:t>
            </a:r>
            <a:r>
              <a:rPr b="0" lang="en-US" sz="2800" spc="-1" strike="noStrike">
                <a:solidFill>
                  <a:srgbClr val="00ccff"/>
                </a:solidFill>
                <a:latin typeface="Georgia"/>
              </a:rPr>
              <a:t>IV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= Ge</a:t>
            </a:r>
            <a:r>
              <a:rPr b="0" lang="en-US" sz="2800" spc="-1" strike="noStrike" baseline="30000">
                <a:solidFill>
                  <a:srgbClr val="00ccff"/>
                </a:solidFill>
                <a:latin typeface="Georgia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</a:t>
            </a:r>
            <a:r>
              <a:rPr b="0" lang="en-US" sz="2800" spc="-1" strike="noStrike" baseline="30000">
                <a:solidFill>
                  <a:srgbClr val="ffff00"/>
                </a:solidFill>
                <a:latin typeface="Georgia"/>
              </a:rPr>
              <a:t>+6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chromium (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V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A couple of exceptions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(multivalent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eorgia"/>
              </a:rPr>
              <a:t>Silv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no Roman Numeral: Always </a:t>
            </a:r>
            <a:r>
              <a:rPr b="0" lang="en-US" sz="2800" spc="-1" strike="noStrike">
                <a:solidFill>
                  <a:srgbClr val="7030a0"/>
                </a:solidFill>
                <a:latin typeface="Georgia"/>
              </a:rPr>
              <a:t>+1</a:t>
            </a:r>
            <a:r>
              <a:rPr b="0" lang="en-US" sz="28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Zin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no Roman Numeral: Always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Georgia"/>
              </a:rPr>
              <a:t>Scandiu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no Roman Numeral: Always </a:t>
            </a:r>
            <a:r>
              <a:rPr b="0" lang="en-US" sz="2800" spc="-1" strike="noStrike">
                <a:solidFill>
                  <a:srgbClr val="00ff00"/>
                </a:solidFill>
                <a:latin typeface="Georgia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afbd"/>
                </a:solidFill>
                <a:latin typeface="Georgia"/>
              </a:rPr>
              <a:t>Cadmiu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no Roman Numeral: Always </a:t>
            </a:r>
            <a:r>
              <a:rPr b="0" lang="en-US" sz="2800" spc="-1" strike="noStrike">
                <a:solidFill>
                  <a:srgbClr val="67afbd"/>
                </a:solidFill>
                <a:latin typeface="Georgia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aming Monatomic Ions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+ Io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s just the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name of the element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sodium, potassium, aluminum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- io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s the stem of the element with an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“ide” ending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chloride, oxide, sulfide, nitrid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man Numeral is the </a:t>
            </a:r>
            <a:r>
              <a:rPr b="0" lang="en-US" sz="2800" spc="-1" strike="noStrike">
                <a:solidFill>
                  <a:srgbClr val="ff00ff"/>
                </a:solidFill>
                <a:latin typeface="Georgia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0" lang="en-US" sz="2800" spc="-1" strike="noStrike">
                <a:solidFill>
                  <a:srgbClr val="ff00ff"/>
                </a:solidFill>
                <a:latin typeface="Georgia"/>
              </a:rPr>
              <a:t>numb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iron (II), gold (III), lead (IV) = “iron two”, “gold three” and “lead four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rebuchet MS"/>
              </a:rPr>
              <a:t>BINARY COMPOUNDS: (2 elements)</a:t>
            </a:r>
            <a:r>
              <a:rPr b="1" lang="en-US" sz="28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Type 1 - metal and nonmetal (ionic compounds)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Cation is named first and anion named seco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97960" indent="-2239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Georgia"/>
              </a:rPr>
              <a:t>sodium chloride (NaCl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Georgia"/>
              </a:rPr>
              <a:t>calcium sulfide    (Ca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Georgia"/>
              </a:rPr>
              <a:t>aluminum nitrid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Georgia"/>
              </a:rPr>
              <a:t>magnesium iodid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Georgia"/>
              </a:rPr>
              <a:t>aluminum chlorid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Georgia"/>
              </a:rPr>
              <a:t>sodium phosphid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Georgia"/>
              </a:rPr>
              <a:t>aluminum oxid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BINARY COMPOUNDS: (2 elements)</a:t>
            </a:r>
            <a:r>
              <a:rPr b="1" lang="en-US" sz="24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Type 1 - metal and nonmetal (ionic compounds)</a:t>
            </a:r>
            <a:br>
              <a:rPr sz="2400"/>
            </a:b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Writing formulas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rebuchet MS"/>
              </a:rPr>
              <a:t>BINARY COMPOUNDS: (2 elements)</a:t>
            </a:r>
            <a:r>
              <a:rPr b="1" lang="en-US" sz="28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Type 2 – contain a multivalent cation (ionic compounds)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se compounds include a multivalent cation, so we must identify the charge on the cation in the name of the comp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Georgia"/>
              </a:rPr>
              <a:t>copper (II) chlorid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Georgia"/>
              </a:rPr>
              <a:t>mercury (II) oxid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Georgia"/>
              </a:rPr>
              <a:t>lead (IV) oxid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hemical Bonds!!!!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What are they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The force holding atoms together in a compound or molecu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Trebuchet MS"/>
              </a:rPr>
              <a:t>TERNARY COMPOUN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Georgia"/>
              </a:rPr>
              <a:t>Contain 3 types of elements, usually an oxygen (ionic compounds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Georgia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Georgia"/>
              </a:rPr>
              <a:t>polyatomic ions”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ff"/>
                </a:solidFill>
                <a:latin typeface="Georgia"/>
              </a:rPr>
              <a:t>sodium nitrat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ff"/>
                </a:solidFill>
                <a:latin typeface="Georgia"/>
              </a:rPr>
              <a:t>iron (III) sulfat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ff"/>
                </a:solidFill>
                <a:latin typeface="Georgia"/>
              </a:rPr>
              <a:t>cesium perchlorat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ff"/>
                </a:solidFill>
                <a:latin typeface="Georgia"/>
              </a:rPr>
              <a:t>ammonium phosphat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ff"/>
                </a:solidFill>
                <a:latin typeface="Georgia"/>
              </a:rPr>
              <a:t>calcium hydroxide  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rebuchet MS"/>
              </a:rPr>
              <a:t>Comparing Anions with Oxygen Atoms</a:t>
            </a:r>
            <a:br>
              <a:rPr sz="1400"/>
            </a:b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(Ionic Compounds)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457200" y="1066680"/>
          <a:ext cx="8458200" cy="569448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65320"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Number of Oxygen Ato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520560"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one: “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de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947160"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chlor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less: “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ypo . . . ite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79600"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less: “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te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166760"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art: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3 oxygen atoms: “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e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947160"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hlor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more: “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er . . . ate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68280">
                <a:tc>
                  <a:txBody>
                    <a:bodyPr lIns="86760" rIns="86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valent Bonding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2a87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lecule – 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c2a87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lectrons are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_____________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both ato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53548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lectron pairs form a bon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53548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oth atoms achieve an ____________________in their outermost orbital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4" name="Picture 6" descr="covalent bonds blue"/>
          <p:cNvPicPr/>
          <p:nvPr/>
        </p:nvPicPr>
        <p:blipFill>
          <a:blip r:embed="rId1"/>
          <a:stretch/>
        </p:blipFill>
        <p:spPr>
          <a:xfrm>
            <a:off x="3429000" y="5113440"/>
            <a:ext cx="208116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valent Bon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80880" y="1905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valent bonds generally </a:t>
            </a:r>
            <a:r>
              <a:rPr b="1" lang="en-US" sz="2800" spc="-1" strike="noStrike">
                <a:solidFill>
                  <a:srgbClr val="438086"/>
                </a:solidFill>
                <a:latin typeface="Georgia"/>
              </a:rPr>
              <a:t>form between atoms of________________________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y are formed by_______________________________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valent compou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ave </a:t>
            </a:r>
            <a:r>
              <a:rPr b="1" lang="en-US" sz="2600" spc="-1" strike="noStrike" u="sng">
                <a:solidFill>
                  <a:srgbClr val="00cc00"/>
                </a:solidFill>
                <a:uFillTx/>
                <a:latin typeface="Georgia"/>
              </a:rPr>
              <a:t>_________________________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600cc"/>
                </a:solidFill>
                <a:uFillTx/>
                <a:latin typeface="Georgia"/>
              </a:rPr>
              <a:t>________________________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n solu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ave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1" lang="en-US" sz="2600" spc="-1" strike="noStrike" u="sng">
                <a:solidFill>
                  <a:srgbClr val="ff0066"/>
                </a:solidFill>
                <a:uFillTx/>
                <a:latin typeface="Georgia"/>
              </a:rPr>
              <a:t>____________________________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n two or more atoms bond covalently, they are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Georgia"/>
              </a:rPr>
              <a:t>____________________________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Ionic Compound vs. Covalent Compound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698" name="Picture 4" descr="004"/>
          <p:cNvPicPr/>
          <p:nvPr/>
        </p:nvPicPr>
        <p:blipFill>
          <a:blip r:embed="rId1"/>
          <a:stretch/>
        </p:blipFill>
        <p:spPr>
          <a:xfrm>
            <a:off x="1998720" y="2249640"/>
            <a:ext cx="51465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valent Bonds (2 types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wo types of covalent bonding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2560" indent="-49536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02652"/>
                </a:solidFill>
                <a:latin typeface="Georgia"/>
              </a:rPr>
              <a:t>__________________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– the electron pair is ________________to one atom than the oth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217520" indent="-49536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lements_____________________________________________________________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952560" indent="-49536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_______________– the electron pair is shared “______________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3" marL="1474920" indent="-49536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ostly  electronegativity is equal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33520" indent="-533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og –Bone Bonds  Covalent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6002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09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Georgia"/>
              </a:rPr>
              <a:t>Polar covale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: Unevenly matched but willing to shar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ronger dog gets a larger portion of the bo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ement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3" name="Picture 5" descr="Polar Covalent Animation"/>
          <p:cNvPicPr/>
          <p:nvPr/>
        </p:nvPicPr>
        <p:blipFill>
          <a:blip r:embed="rId1"/>
          <a:stretch/>
        </p:blipFill>
        <p:spPr>
          <a:xfrm>
            <a:off x="2362320" y="2209680"/>
            <a:ext cx="43434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og-Bone Bonds Coval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80880" y="16765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88360" indent="-201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Georgia"/>
              </a:rPr>
              <a:t>Nonpolar covalent</a:t>
            </a:r>
            <a:r>
              <a:rPr b="0" lang="en-US" sz="2800" spc="-1" strike="noStrike">
                <a:solidFill>
                  <a:srgbClr val="6600cc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Dogs of equal strengt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88360" indent="-201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88360" indent="-201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88360" indent="-201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88360" indent="-201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88360" indent="-201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88360" indent="-201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88360" indent="-201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88360" indent="-201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88360" indent="-201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th dogs have equal attraction for the bo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88360" indent="-201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ements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88360" indent="-201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6" name="Picture 5" descr="Covalent Bonding animation"/>
          <p:cNvPicPr/>
          <p:nvPr/>
        </p:nvPicPr>
        <p:blipFill>
          <a:blip r:embed="rId1"/>
          <a:stretch/>
        </p:blipFill>
        <p:spPr>
          <a:xfrm>
            <a:off x="2057400" y="2286000"/>
            <a:ext cx="43434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ONIC or COVALENT BOND??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w can we determine which type of bond will form between atom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y the_______________ of each atom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_______________________________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ONIC or COVALENT???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380880" y="15238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can we tell what type of bond will form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5400" indent="-2041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It depends on the </a:t>
            </a:r>
            <a:r>
              <a:rPr b="0" lang="en-US" sz="2200" spc="-1" strike="noStrike">
                <a:solidFill>
                  <a:srgbClr val="0000ff"/>
                </a:solidFill>
                <a:latin typeface="Georgia"/>
              </a:rPr>
              <a:t>electronegativity 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values of the two atoms sharing the bond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02760" indent="-212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2760" indent="-212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2760" indent="-212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2760" indent="-212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2760" indent="-212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2760" indent="-212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2760" indent="-212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2760" indent="-212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2760" indent="-212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lectronegativity – 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2760" indent="-212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1" name="Picture 4" descr="fig08_03"/>
          <p:cNvPicPr/>
          <p:nvPr/>
        </p:nvPicPr>
        <p:blipFill>
          <a:blip r:embed="rId1"/>
          <a:stretch/>
        </p:blipFill>
        <p:spPr>
          <a:xfrm>
            <a:off x="762120" y="2819520"/>
            <a:ext cx="78483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s of Bonds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onic Bo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valent Bond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lar Coval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npolar Covalent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tallic Bond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Determine Bond Typ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btract the electronegativity values of the 2 ato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086"/>
                </a:solidFill>
                <a:latin typeface="Georgia"/>
              </a:rPr>
              <a:t>IONIC BO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38086"/>
                </a:solidFill>
                <a:latin typeface="Georgia"/>
              </a:rPr>
              <a:t>__________________________________________________________________________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COVALENT BO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_____________________________________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wo types of covalent: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Georgia"/>
              </a:rPr>
              <a:t>Nonpolar covalent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difference = ___________)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Polar covalent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difference =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____________ )</a:t>
            </a:r>
            <a:endParaRPr b="0" lang="en-US" sz="28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olarity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lar covalent bo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__________________________________________________________________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____________________________________________________________________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____________________________________________________________________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+  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-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xample:  H – C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olarit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Nonpolar covalent bon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th atoms have __________________on the electron pair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ectronegativity difference =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0.0 – 0.4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-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OLARITY (an explanation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* Rememb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--Polar Covale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 bond formed by an unequal sharing of a pair of electr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ctet Rule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oms tend to gain or lose as many valence electrons as they “need” in  order to obtain an electron configuration that is the same as a noble g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4" name="Picture 3" descr="2410_chemistry_cartoon.gif"/>
          <p:cNvPicPr/>
          <p:nvPr/>
        </p:nvPicPr>
        <p:blipFill>
          <a:blip r:embed="rId1"/>
          <a:stretch/>
        </p:blipFill>
        <p:spPr>
          <a:xfrm>
            <a:off x="2362320" y="3629160"/>
            <a:ext cx="24494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ons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tions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toms who lose electrons  (metal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sitive charg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xamples: sodium, ir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ions –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toms who gain electr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egative charg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xamples: chlorine, nitroge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Dog - Bone Bonds: Ionic bonds</a:t>
            </a:r>
            <a:br>
              <a:rPr sz="2800"/>
            </a:br>
            <a:r>
              <a:rPr b="0" lang="en-US" sz="1400" spc="-1" strike="noStrike">
                <a:solidFill>
                  <a:srgbClr val="424456"/>
                </a:solidFill>
                <a:latin typeface="Trebuchet MS"/>
              </a:rPr>
              <a:t>[http--ithacasciencezone_com-chemzone-lessons-03bonding-dogcovnt_gif.htm]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086"/>
                </a:solidFill>
                <a:latin typeface="Georgia"/>
              </a:rPr>
              <a:t>Ionic bond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One big greedy thief dog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g that gets bone – negat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g that loses bone – positiv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9" name="Picture 5" descr="ionic bonding animation"/>
          <p:cNvPicPr/>
          <p:nvPr/>
        </p:nvPicPr>
        <p:blipFill>
          <a:blip r:embed="rId1"/>
          <a:stretch/>
        </p:blipFill>
        <p:spPr>
          <a:xfrm>
            <a:off x="1752480" y="281952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onic Bonds (also known as salts)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ectrons are transferr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ations give up electrons, anions take electr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oth atoms achieve an octet in their valence (outermost) shell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he attractive forces(electrostatic) bring the cation and anion together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662" name="Picture 9" descr="ionic bonding"/>
          <p:cNvPicPr/>
          <p:nvPr/>
        </p:nvPicPr>
        <p:blipFill>
          <a:blip r:embed="rId1"/>
          <a:stretch/>
        </p:blipFill>
        <p:spPr>
          <a:xfrm rot="10800000">
            <a:off x="3276720" y="4876560"/>
            <a:ext cx="3200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onic Bon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086"/>
                </a:solidFill>
                <a:latin typeface="Georgia"/>
              </a:rPr>
              <a:t>Form between atoms of </a:t>
            </a:r>
            <a:r>
              <a:rPr b="1" lang="en-US" sz="2800" spc="-1" strike="noStrike" u="sng">
                <a:solidFill>
                  <a:srgbClr val="438086"/>
                </a:solidFill>
                <a:uFillTx/>
                <a:latin typeface="Georgia"/>
              </a:rPr>
              <a:t>metallic and nonmetallic</a:t>
            </a:r>
            <a:r>
              <a:rPr b="1" lang="en-US" sz="2800" spc="-1" strike="noStrike">
                <a:solidFill>
                  <a:srgbClr val="438086"/>
                </a:solidFill>
                <a:latin typeface="Georgia"/>
              </a:rPr>
              <a:t> elem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Georgia"/>
              </a:rPr>
              <a:t>A transfer of electron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esults in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positive &amp; negative ion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hat ar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Georgia"/>
              </a:rPr>
              <a:t>attracted to each ot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perties of Ionic Compou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1" lang="en-US" sz="2600" spc="-1" strike="noStrike" u="sng">
                <a:solidFill>
                  <a:srgbClr val="00cc00"/>
                </a:solidFill>
                <a:uFillTx/>
                <a:latin typeface="Georgia"/>
              </a:rPr>
              <a:t>Soluble in wat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600cc"/>
                </a:solidFill>
                <a:uFillTx/>
                <a:latin typeface="Georgia"/>
              </a:rPr>
              <a:t>Conduct electric current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in the </a:t>
            </a:r>
            <a:r>
              <a:rPr b="1" lang="en-US" sz="2600" spc="-1" strike="noStrike">
                <a:solidFill>
                  <a:srgbClr val="6600cc"/>
                </a:solidFill>
                <a:latin typeface="Georgia"/>
              </a:rPr>
              <a:t>molten state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1" lang="en-US" sz="2600" spc="-1" strike="noStrike">
                <a:solidFill>
                  <a:srgbClr val="6600cc"/>
                </a:solidFill>
                <a:latin typeface="Georgia"/>
              </a:rPr>
              <a:t>(melted)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as well as in</a:t>
            </a:r>
            <a:r>
              <a:rPr b="0" lang="en-US" sz="2600" spc="-1" strike="noStrike">
                <a:solidFill>
                  <a:srgbClr val="6600cc"/>
                </a:solidFill>
                <a:latin typeface="Georgia"/>
              </a:rPr>
              <a:t> </a:t>
            </a:r>
            <a:r>
              <a:rPr b="1" lang="en-US" sz="2600" spc="-1" strike="noStrike">
                <a:solidFill>
                  <a:srgbClr val="6600cc"/>
                </a:solidFill>
                <a:latin typeface="Georgia"/>
              </a:rPr>
              <a:t>solution (electrolyte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ve </a:t>
            </a:r>
            <a:r>
              <a:rPr b="1" lang="en-US" sz="2600" spc="-1" strike="noStrike" u="sng">
                <a:solidFill>
                  <a:srgbClr val="ff0066"/>
                </a:solidFill>
                <a:uFillTx/>
                <a:latin typeface="Georgia"/>
              </a:rPr>
              <a:t>high melting points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(need to break crystalline structure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og - Bone Bonds: Metallic bon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Georgia"/>
              </a:rPr>
              <a:t>Metallic bonds: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llow dogs with plenty of bones to go ar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ectrons move through the substance with little restri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7" name="Picture 5" descr="metallic bonds animation"/>
          <p:cNvPicPr/>
          <p:nvPr/>
        </p:nvPicPr>
        <p:blipFill>
          <a:blip r:embed="rId1"/>
          <a:stretch/>
        </p:blipFill>
        <p:spPr>
          <a:xfrm>
            <a:off x="2743200" y="3078000"/>
            <a:ext cx="394344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3:41:27Z</dcterms:created>
  <dc:creator>asalla</dc:creator>
  <dc:description/>
  <dc:language>en-US</dc:language>
  <cp:lastModifiedBy>asalla</cp:lastModifiedBy>
  <dcterms:modified xsi:type="dcterms:W3CDTF">2010-03-15T12:22:37Z</dcterms:modified>
  <cp:revision>16</cp:revision>
  <dc:subject/>
  <dc:title>Chapters 7, 8, and 9  Ionic Bonding, Covalent Bonding, and Nomenclature</dc:title>
</cp:coreProperties>
</file>